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4C51-7529-43D9-8CAE-16B94CC62A1E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0F14-3B9C-45C4-B727-C0F5AF1639A5}" type="slidenum">
              <a:rPr b="0" lang="cy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5D2-B347-41C0-9425-F97840BA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49F-45E4-4982-A634-E8C9C464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695-6B74-4BCC-9470-0085E57C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84E5-2B0E-4ED4-B383-6D5B0667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578E-4E93-42F5-AD52-6998FB23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D440-632B-47C7-933F-49A5F7AF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EE73-F470-4EED-9B92-568B46E5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1058-296F-439C-BC2F-25D5CCA5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2BF5-1E0E-47C6-8588-F8684150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94EA-09DE-4528-8349-9ED2B7E2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B430-DD13-4F7B-9E81-34D86BB2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3C1-9083-4E49-ADA4-DA4166AB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07A4-B837-4E80-B0D7-A7E33D5A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8AA8-4924-45BA-B25E-1F263638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ADC0-B294-4BD8-8644-758D9677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D337-1881-4215-9178-A34CB45A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1866-4AEF-4E3D-8502-D98C8EFD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6F9-10A1-481D-A790-051592D3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52A-7694-4C96-BED1-9C1CACC3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9B2-07FD-4507-9AD2-7BED4FD1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CC2-D3D0-4BA6-9541-C49BCC82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C70-C854-441C-A283-E8394E5D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CA8-C4BE-439F-B141-63603E5A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A34-D01F-4FFD-A976-A4510FE1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1FFC-267B-4297-97C8-203642A357D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7A71-692B-46B9-8F54-541643709F52}" type="slidenum"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8f8f8"/>
                </a:solidFill>
                <a:latin typeface="Tahoma"/>
              </a:rPr>
              <a:t>Ymgyrch</a:t>
            </a:r>
            <a:r>
              <a:rPr b="0" lang="cy-GB" sz="4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GB" sz="4000" spc="-1" strike="noStrike">
                <a:solidFill>
                  <a:srgbClr val="f8f8f8"/>
                </a:solidFill>
                <a:latin typeface="Tahoma"/>
              </a:rPr>
              <a:t>Farchna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Footer Placeholder 1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U 1.1.8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Ymgyrch Farchn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v-SE" sz="3200" spc="-1" strike="noStrike">
                <a:solidFill>
                  <a:srgbClr val="f8f8f8"/>
                </a:solidFill>
                <a:latin typeface="Tahoma"/>
              </a:rPr>
              <a:t>Gofynnwyd i chi gynhyrchu ymgyrch farchnata ar gyfer ’Esgid Chwaraeon / Treinyrs’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8f8f8"/>
                </a:solidFill>
                <a:latin typeface="Tahoma"/>
              </a:rPr>
              <a:t>Meddyliwch am ddyluniad ar gyfer eich esgid chwaraeon / treinyrs newyd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8f8f8"/>
                </a:solidFill>
                <a:latin typeface="Tahoma"/>
              </a:rPr>
              <a:t>Cynulleidfa darged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8f8f8"/>
                </a:solidFill>
                <a:latin typeface="Tahoma"/>
              </a:rPr>
              <a:t>Pa enw fyddwch yn ei roi i’r esgid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8f8f8"/>
                </a:solidFill>
                <a:latin typeface="Tahoma"/>
              </a:rPr>
              <a:t>Sut y byddwch yn ei becynnu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Ymgyrch Farchn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8f8f8"/>
                </a:solidFill>
                <a:latin typeface="Tahoma"/>
              </a:rPr>
              <a:t>Meddyliwch am slogan ar gyfer eich cynnyrch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8f8f8"/>
                </a:solidFill>
                <a:latin typeface="Tahoma"/>
              </a:rPr>
              <a:t>Meddyliwch am strategaeth ’cymysgedd farchnata’ fanwl dros gyfnod o chwe mi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8f8f8"/>
                </a:solidFill>
                <a:latin typeface="Tahoma"/>
              </a:rPr>
              <a:t>Dangoswch y cylch bywyd ar gyfer eich cynnyrch (chwe mis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8f8f8"/>
                </a:solidFill>
                <a:latin typeface="Tahoma"/>
              </a:rPr>
              <a:t>Lluniwch ymgyrch hyrwyddo fanwl ar gyfer eich cynnyrch – rhowch resymau, eglurwch eich gweithredu a rhowch gyfiawnhad dros bob un o’ch penderfyniadau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0:00:53Z</dcterms:created>
  <dc:creator>Castell Alun HS</dc:creator>
  <dc:description/>
  <dc:language>en-US</dc:language>
  <cp:lastModifiedBy>TimData</cp:lastModifiedBy>
  <dcterms:modified xsi:type="dcterms:W3CDTF">2015-05-06T18:18:07Z</dcterms:modified>
  <cp:revision>3</cp:revision>
  <dc:subject/>
  <dc:title>Marketing Campaign</dc:title>
</cp:coreProperties>
</file>